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214-4EC4-4678-9426-E1ACB456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817-1AF0-44FD-8E0A-B5EBFA35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F29-9619-4689-BC31-8E092329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44B-EFD4-43E5-90A9-F79F9952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1902-1099-4048-A227-07D2874E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5282-F29E-426C-B6C9-DC414E4D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6ED8-1959-430B-B877-2F6C7901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23CE-DB34-467B-9EC8-B2881049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17D6-8EBD-4F94-8F14-835AF966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7758-025B-4609-BC2B-4603AEEA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C518-F4D3-4294-9ACA-9ABFCE52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71B-57AC-4271-85FE-84CA4413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D58E-4C6E-4F7C-A0A0-D52B9EC1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3B5A-8788-4454-9031-75BC35CD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5A96-2D35-4F61-AF4E-F904A0D5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4B78-7D17-4AD3-BC09-ED4C6E0D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21A4-D050-4F01-8719-9D995C09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348-5D5D-4C20-B875-5A20492C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4E5-8BC9-4683-A1A8-19A10589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F7A-8DD0-4F0D-8446-FB404B45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641-C3EA-46AA-9825-5E1D183B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6A6-167D-4985-A601-F58240C5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15FC-6F10-4B51-98FC-0FF8EC3C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86E-8F74-4F75-90AB-22DCDFA6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5673-504D-48B5-93C4-AE2C1FB6C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C6F0-5A29-45C2-BAEC-2547EF7EB9D5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Princetown LET"/>
              </a:rPr>
              <a:t>Jacks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lackmoor LET"/>
              </a:rPr>
              <a:t>Funny, brave, strong, c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lackmoor LET"/>
              </a:rPr>
              <a:t>Son of Mark and He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lackmoor LET"/>
              </a:rPr>
              <a:t>Who loves to to rugby and ride my motorb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lackmoor LET"/>
              </a:rPr>
              <a:t>Who feels happy when in the tractor with 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lackmoor LET"/>
              </a:rPr>
              <a:t>Who fears my si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lackmoor LET"/>
              </a:rPr>
              <a:t>Who would some day like to be in the Black C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lackmoor LET"/>
              </a:rPr>
              <a:t>O’Connor</a:t>
            </a:r>
            <a:r>
              <a:rPr b="0" lang="en-US" sz="2400" spc="-1" strike="noStrike">
                <a:solidFill>
                  <a:srgbClr val="000000"/>
                </a:solidFill>
                <a:latin typeface="Blackmoor LE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40132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22:43:12Z</dcterms:created>
  <dc:creator>Tim Marriott</dc:creator>
  <dc:description/>
  <dc:language>en-US</dc:language>
  <cp:lastModifiedBy>Tim Marriott</cp:lastModifiedBy>
  <cp:lastPrinted>2009-02-11T19:33:19Z</cp:lastPrinted>
  <dcterms:modified xsi:type="dcterms:W3CDTF">2009-02-11T19:33:23Z</dcterms:modified>
  <cp:revision>4</cp:revision>
  <dc:subject/>
  <dc:title>Jackson</dc:title>
</cp:coreProperties>
</file>